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26EF-3A08-45B1-8F60-1C54778B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756B-6768-425D-BA7A-F83E6150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6189-016F-4FD4-9D22-53B64BDA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F609-5884-4414-93ED-801BF491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7565-CE0E-4593-8C3A-48257259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20C8-E77B-4C01-9121-92D3B4FC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5CFD-3553-4FA8-B3C4-3D58204C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7F70-3240-4793-946C-4D861B91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281C-C629-42DD-BD30-F7615D39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7E53-5E17-4BAB-B236-9754BA0F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0CB0-6200-4AAA-A60B-2F3970F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C942-9F16-49A8-BBDE-D37CA3D1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B3F0-A2BF-42E5-8177-D47B731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D4E9-92F9-4836-B245-A6046583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853C-179A-45FE-86C9-E763786A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F3C3-3CFD-4248-A7C4-C38B9D03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AF18-D91B-4B54-A391-E52CD2C1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6E30-5947-4137-B4B2-15314B94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DC2F-45FF-4153-B90B-F314A8C5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7430-C6E4-40B4-8B61-DB53A22F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A353-8805-4DA0-AC8F-6336EF80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C41E-E19D-4828-BEDA-AFF9355F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737E-E475-415D-B99E-2081F171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A3DA-9D36-4165-AA2D-15DE98F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948B-CB20-47DE-9C49-5B18C619F0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21A3-FB75-4AE3-90D8-D49837F89D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Language Arts Assessment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dfbe3"/>
                </a:solidFill>
                <a:latin typeface="Comic Sans MS"/>
              </a:rPr>
              <a:t>Logos</a:t>
            </a:r>
            <a:endParaRPr b="0" lang="en-US" sz="57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3124440" cy="3122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3429000"/>
            <a:ext cx="350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A Snickers bar has 280 calories and 30 grams of sugar. That’s not very healt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acts, numbers, and information can be very convinc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dfbe3"/>
                </a:solidFill>
                <a:latin typeface="Comic Sans MS"/>
              </a:rPr>
              <a:t>Pathos</a:t>
            </a:r>
            <a:endParaRPr b="0" lang="en-US" sz="57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84880" y="3124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3352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Your donation might just get this puppy off the street and into a good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etting people to feel happy, sad, or angry can help your argu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dfbe3"/>
                </a:solidFill>
                <a:latin typeface="Comic Sans MS"/>
              </a:rPr>
              <a:t>Ethos</a:t>
            </a:r>
            <a:endParaRPr b="0" lang="en-US" sz="57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814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36576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Believe me! I’ve been there before. I’m just like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8288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f people believe and trust in you, you’re more likely to persuade th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dfbe3"/>
                </a:solidFill>
                <a:latin typeface="Comic Sans MS"/>
              </a:rPr>
              <a:t>Kairos</a:t>
            </a:r>
            <a:endParaRPr b="0" lang="en-US" sz="57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246400" cy="3124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8862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This is a one-time offer. You can’t get this price after to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828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y to convince your audience that this issue is so important they must act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dfbe3"/>
                </a:solidFill>
                <a:latin typeface="Comic Sans MS"/>
              </a:rPr>
              <a:t>Research</a:t>
            </a:r>
            <a:endParaRPr b="0" lang="en-US" sz="57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217476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327672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A recent study found that students who watch TV during the week don’t do as well in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828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sing reliable research can help your argument seem convinc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Practice Writing Persuasively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phones are currently not allowed to be used in school. Write a 5 paragraph essay, with an introduction and conclusion, presenting arguments as to why you think cell phones should or should not be permitted in sch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Assessmen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assessment is worth 20% of your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rm ma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two parts to the assessmen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ng Compreh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Reading Comprehension (20pts)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, May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compone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ction pa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Fiction pa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passage will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ltiple choi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hort answ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answer the short answer questions in complete sentences o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rks will be taken o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Writing (30pts)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rsday, May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required to wri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ersuasive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n a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not be given the entire topic, but we will discuss the topic before Thur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required to do some work at home (such as research, discussion with parents, etc) the night before to help you the day of the assess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How Can I Prepare?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in min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ading strateg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ou have learn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-read to und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the passage tw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back to the passage to find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dictionary/thesaurus to look up any unknown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How Can I Prepare?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in mind the writing strategies you have learn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instorm all id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draft co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your dictionary when you are unsure how to spell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ofread at least once to catch err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ember punctu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need a question mark if you ask a ques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ware of homonyms: their/there/they’re, your, you’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95320"/>
            <a:ext cx="7772400" cy="14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dfbe3"/>
                </a:solidFill>
                <a:latin typeface="Comic Sans MS"/>
              </a:rPr>
              <a:t>Persuasive Strategies</a:t>
            </a:r>
            <a:endParaRPr b="0" lang="en-US" sz="60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75400" y="5867280"/>
            <a:ext cx="5187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pyright 2006 IRA/NCTE. All rights reserv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adWriteThink.org materials may be reproduced for educational purpo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mages ©2006 Microsoft Corporation. All rights reserv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dfbe3"/>
                </a:solidFill>
                <a:latin typeface="Comic Sans MS"/>
              </a:rPr>
              <a:t>Claim</a:t>
            </a:r>
            <a:endParaRPr b="0" lang="en-US" sz="57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009960" cy="2503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320040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I am going to try to convince you that chocolate is a healthy sn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19240" y="19051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ate your argu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dfbe3"/>
                </a:solidFill>
                <a:latin typeface="Comic Sans MS"/>
              </a:rPr>
              <a:t>Big Names</a:t>
            </a:r>
            <a:endParaRPr b="0" lang="en-US" sz="57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908680" y="3352680"/>
            <a:ext cx="2228760" cy="2895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8862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Former U.S. president Bill Clinton thinks that junk food should be taken out of vending mach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8288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mportant people or experts can make your argument seem more convinc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4:06:16Z</dcterms:created>
  <dc:creator>lindsey.carleton</dc:creator>
  <dc:description/>
  <dc:language>en-US</dc:language>
  <cp:lastModifiedBy>lindsey.carleton</cp:lastModifiedBy>
  <dcterms:modified xsi:type="dcterms:W3CDTF">2009-05-14T18:53:52Z</dcterms:modified>
  <cp:revision>5</cp:revision>
  <dc:subject/>
  <dc:title>Language Arts Assessment</dc:title>
</cp:coreProperties>
</file>